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4D543E1-F91A-42AD-A89D-AC8F83AEB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ing and scale of axes (numbering months vs naming them, where to put January, degrees as the dependent variable in a trig graph), are all periodic graphs sinusoidal?, continuous vs discrete data and use of average values, cross-curricular links to explain observed results (effect of latitude, elevation, etc on pattern and links to amplitude/ mean line), importance of equality of vertical scale to make graphical comparisons across  different count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A7E-DFB7-429A-9F16-DBD9CE36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FE5-89C3-44C9-8AD9-E3C514D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804-5D96-4C36-8BDE-AE3D2117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500-014B-4BD8-A0A2-CD61EB02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BB8-EBEE-4946-8786-F777E89A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4E49-6FDB-4445-A8FE-3EEC0CB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F93-B5A3-4387-977B-A7D92CB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8BB9-D9FD-462E-92CF-4FF4C648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B916-F484-4B94-96FE-CA44B1B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83B6-2BE8-4B31-A246-52447B5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31C-885A-4ECD-BCD9-21519F1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D11-3712-4199-B7F0-AA8E41F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459E-958E-4C7A-927D-E10223F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EA8D-B37E-4327-9CE2-252153A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AA6-0A2E-482A-9959-6FF2190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CBAF-5F2C-41A4-AA49-0229395C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3880-E79A-47ED-9AA5-1870A200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1FF-B504-4AC8-A750-3D46781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A8E-F967-4AA1-9846-262624DE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E0B-7353-4640-BFAA-4CB856A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0AA-365B-404D-9EE6-6735A5C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9CC-A8DE-4B39-A3F2-B6CB4F5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C3C-FFDF-441A-9869-53122B9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0B1-0237-4D4D-8E77-FC6CE4DE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CE5-32BC-42AD-A50A-54C1104C5B7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517-9373-456B-959B-AEE37C0D8A8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D63-0D4B-4F0F-8430-3D45A238752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6440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Day 3 – 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om Chap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udy Menda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823160" y="53848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20000" y="560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54760" y="548172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823160" y="555156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934400" y="542592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37560" y="555156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61400" y="546876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864560" y="56484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9480" y="541332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21400" y="542592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: Day 3 - P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ten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aming and scale of axes (numbering months vs naming them, where to put January, degrees as the dependent variable in a trig gra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tinuous vs discrete data and use of averag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etc on pattern and links to amplitude/ mean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ortance of equality of vertical scale to make graphical comparisons across  different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808760" y="563400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84920" y="559260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99320" y="546876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8760" y="542592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all files from CAMPPP!</a:t>
            </a:r>
            <a:br>
              <a:rPr sz="2400"/>
            </a:br>
            <a:br>
              <a:rPr sz="12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2600280"/>
            <a:ext cx="594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920000" y="568944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7T01:26:38Z</dcterms:modified>
  <cp:revision>128</cp:revision>
  <dc:subject/>
  <dc:title>Math GAINS 2008-09</dc:title>
</cp:coreProperties>
</file>